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ED2F-BD18-46AF-B61E-9E51B270262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have several points, steps, or key ideas use multiple slides.  Determine if your audience is to understand a new idea, learn a process, or receive greater depth to a familiar concept.  Back up each point with adequate explanation. As appropriate, supplement your presentation with technical support data in hard copy or on disc, e-mail, or the Internet.  Develop each point adequately to communicate with your audi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AF58-4BC3-4846-BA27-262F57892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E019-157E-4D2B-9824-7475C9FB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B975-6EA0-414E-9FDF-FB2E9A4B2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13F4-C918-4B15-800E-AFB47F2DD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4C91-4A07-47BB-99BB-54FD55F7A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436C6-E733-4935-BC5B-0D86A022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9E99-DCB8-48B5-B010-CD3B13EF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50B8-DC2A-4560-AB21-036B10C2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40EC-E4B2-40BB-A381-5FECD07E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662E8-4406-4AD1-A798-36DA0C82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F637-FB37-47F6-AD92-554CA7D3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6AB4-55B0-4B35-905F-B429350B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A2FC-B3D0-4AD4-99D6-DBCDBA6E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7710-C528-4343-B6D7-8853BBFF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F854-B185-4199-9DED-0413F565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3EB55-BE96-4A33-8717-EF2D800A8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59BB-8376-4623-AFAE-152D9B208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F28F-82FA-4866-8AC5-FEA979F9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7FBC-F30E-44A2-85D0-8947ACC1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7882-2202-4AB5-8E73-FBB7BB87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54A7-2DD1-4A7B-B0BE-4366E424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0987-B9D7-4B4C-8650-3FD77D8E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74BE-D8CC-4DCF-911A-DB1FB4A3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6413-D40D-4D20-B1C7-4831EA74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6744-22B9-4B99-BA2E-D071DB003C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5E34-7E20-48B6-BC29-B4FD8026BD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localhost:8080/ekp/nd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Overview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e-click launch of applic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uto-install fea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 versioning/caching feature for update/fast startu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 some API for desktop applic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ndle a JNLP-deployed application in a Web Archive (WAR) fil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686800" cy="44388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Architecture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0880" y="915840"/>
            <a:ext cx="8458200" cy="60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&lt;jnlp spec="1.0+" codebase=</a:t>
            </a:r>
            <a:r>
              <a:rPr b="0" lang="en-US" sz="1400" spc="-1" strike="noStrike" u="sng">
                <a:solidFill>
                  <a:srgbClr val="ff6600"/>
                </a:solidFill>
                <a:uFillTx/>
                <a:latin typeface="Courier New"/>
                <a:hlinkClick r:id="rId1"/>
              </a:rPr>
              <a:t>http://localhost:8080/ekp/nd</a:t>
            </a: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 href="http://localhost:8080/ekp/nd/test.jnlp"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informati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title&gt;JWS test&lt;/titl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vendor&gt;Netdimensions&lt;/vendo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homepage href="http://www.netdimensions.com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description&gt;Test&lt;/descripti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icon href="http://www.netdimensions.com/netd_images/logo.jpg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offline-allowed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informati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securit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securit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resources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j2se version="1.3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&lt;jar href="http://localhost:8080/ekp/nd/test.jar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resources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&lt;application-desc main-class="test.test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jnlp&gt;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Example of descriptor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Extra Tag useful in descriptor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ine extra 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plication-desc main-clas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"Main"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   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arg1&lt;/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   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arg2&lt;/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/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plication-des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ine VM 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2se versio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"1.3"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itial-heap-siz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"64m"/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property name="..." value=".."/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4495680"/>
            <a:ext cx="7543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ttp://carfield:8080/ekp/nd/test.jnl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Auto Install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ly For Windows platfor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OBJECT CODEBASE="</a:t>
            </a:r>
            <a:r>
              <a:rPr b="1" lang="en-US" sz="1600" spc="-1" strike="noStrike">
                <a:solidFill>
                  <a:srgbClr val="f1b60f"/>
                </a:solidFill>
                <a:latin typeface="Courier New"/>
              </a:rPr>
              <a:t>http://java.sun.com/products/javawebstart/autodl/jinstall-1_4_1-windows-i586.cab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" CLASSID="</a:t>
            </a:r>
            <a:r>
              <a:rPr b="1" lang="en-US" sz="1600" spc="-1" strike="noStrike">
                <a:solidFill>
                  <a:srgbClr val="f1b60f"/>
                </a:solidFill>
                <a:latin typeface="Courier New"/>
              </a:rPr>
              <a:t>clsid:5852F5ED-8BF4-11D4-A245-0080C6F74284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" HEIGHT=0 WIDTH=0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&lt;PARAM NAME="app" VALUE="http://carfield:8080/ekp/nd/test.jnlp"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PARAM NAME="back" VALUE="true"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!-- Alternate HTML for browsers which cannot instantiate the object --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A HREF="http://java.sun.com/cgi-bin/javawebstart-platform.sh?"&gt;Download Java Web Start&lt;/A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/OBJEC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place CODEBASE for complete JRE instal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mo: http://carfield:8080/ekp/nd/test1.ht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Java Web Start API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sicService, which provides a service similar to the AppletCon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wnloadService, which allows an application to interact with the JNLP Client to check if application resources are available locally, and to request them to be download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allow un-trust client execute system fun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eOpen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eSave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pboard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t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Service, key base persistence store like cook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nsionInstallerService, which provides an interface for extension installers to communicate with the JNLP Cli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Other Feature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ble to access system resource using code sign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che the jar in hard-dis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ckaging JNLP Applications in a Web Arch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ersioning support:</a:t>
            </a:r>
            <a:br>
              <a:rPr sz="30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jar href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="http://www.mysite.com/b.jar"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ersion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="2.3+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06:37:15Z</dcterms:created>
  <dc:creator>carfield</dc:creator>
  <dc:description/>
  <dc:language>en-US</dc:language>
  <cp:lastModifiedBy>Netdimensions</cp:lastModifiedBy>
  <dcterms:modified xsi:type="dcterms:W3CDTF">2003-04-03T08:19:49Z</dcterms:modified>
  <cp:revision>5</cp:revision>
  <dc:subject/>
  <dc:title>Java Web Start</dc:title>
</cp:coreProperties>
</file>